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52C-C3C8-4698-B05E-D73ED6B1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EE-87E4-4F39-9E99-48D067BA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03A-907C-42D0-BFF3-4372C87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180-D095-4F43-B1B6-0D5DD3A4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E3AB-0D16-4A5F-9BE3-57D3F8C9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CE95-E4C2-4937-93F6-1836F24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DF9-6DB9-4ED0-8BF6-BA6EA56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C58-82B7-428E-8601-1F739D87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D18C-5765-483D-A1E8-E2E6A0DC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242-7050-4C9B-A2E2-939B10B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6C38-F869-4E10-914F-5D8A0EE0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C3F-D9F1-4FB8-8410-E9A8B86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88A-284F-4E4C-AD84-DC75469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F1C-1B4A-44AA-BE03-74B6C4C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114-2410-4A2E-91F1-DF0FBE8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7083-4615-4AFE-ABCD-1ADF8B41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E99-3F22-45A1-BBF4-5D55EC31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21E1-F8CC-4F8A-9353-788D13C7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EAA1-A1CE-4358-895E-94612E0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B053-2F38-4CBC-B7A6-D040541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F505-7265-4827-8964-DF293F51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99D8-A8BD-496A-B767-6122C4D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92B-6D5E-4E29-A7E7-04B6DEB5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2EDB-6A7C-4D8F-9C57-D19B60B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D7D7-BAA8-4886-9A50-1A49DF7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4510-5F05-4BE3-AE63-3BE3C64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1A22-DE49-4C64-9D6B-8404D998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E59F-89FD-4932-B6E8-E42D7384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9E6B-FB51-480E-8BF2-0DCF8FC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D150-88E4-47B8-9D85-53B3D2A7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CCAE-309E-4010-A7D3-749EDF52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FBE7-A123-44B5-84BF-0D0CD3C0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42A8-F8F9-42A0-B276-50A9BA6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CCE-E1EF-4B93-BD11-6C644E6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5081-FBB3-4B2B-B4CB-979CC6F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3879-7907-466F-B50D-FA5A63C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F118-8782-4E61-B0B0-CDAA3EA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AA88-1459-416A-B96F-0D0F81AB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CEA3-3DE5-430B-AE67-5247EAC1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D0F0-1F6B-473F-9DA5-534BE49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BCCA-46A3-453B-8208-BC7E0EF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A44A-4687-4408-B9C8-96CA1D78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379C-37C0-49E8-95DE-AAE70C03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45F4-13D2-4034-9B34-CE1BD03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DBE-B495-44F7-930E-4F5D7EC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881C-90AC-4B60-875F-1DDCDF1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C534-F355-45A6-A932-F1F3311A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A71B-0655-4F50-AD1C-9F0516B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2267-7930-4367-8C0A-68B8B93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6723-49F9-48B1-8DFE-B7B8391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8880-3719-4DF4-BBE9-431799D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622E-2A37-428C-8AAA-2AC9453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092C-1A3F-49CA-8ADA-0201339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8FC7-FDE6-4B14-906A-C804E62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0B1D9-68F2-45C0-ADB9-3C86474E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059-A996-4397-8AE0-3D0A8E2A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0723-4AFF-492A-8E5D-1099CA3E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188A-1B74-4846-86B5-822EFADE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0514-B001-4E3E-9A06-F29D254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78810-7C3F-431A-A845-EB6F4A16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4C8C-1A12-4317-A92A-2218BE0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E01E-C2A0-44A2-8603-A1D8D183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E51B-4367-4841-9DF5-2D3C8AA2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4FCC-1C09-469E-98ED-74A72B2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DB76-1CEA-4D75-81BA-FC8D881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0BFF6-DDEE-4871-859B-ACD0BFC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0AA-0AFC-41A5-8035-CF7A147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A5F46-ADBA-45F3-9ADE-A55E9E1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D422-8841-4F17-9127-204192E1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019AD-0471-4956-B62F-0C318391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799-F7B9-4FEC-AF79-399B0CFE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674-141D-41EA-BECE-E892AF0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B581-A873-4DE7-8438-AE26A6888A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A57-A367-4FF8-B6DE-4A8A37DCB3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A91-9144-4B96-B6B9-5CF219EBD4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6ADC-599A-4B03-B493-04C7AE96560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DCE8-A42A-4778-968A-67337073106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D75-0883-4ACF-A347-3292B43D9B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6" descr="rs-lgfla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2" descr=""/>
          <p:cNvPicPr/>
          <p:nvPr/>
        </p:nvPicPr>
        <p:blipFill>
          <a:blip r:embed="rId2"/>
          <a:stretch/>
        </p:blipFill>
        <p:spPr>
          <a:xfrm>
            <a:off x="755640" y="396720"/>
            <a:ext cx="812628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Yaseen A. and Charlie 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8" descr="image018"/>
          <p:cNvPicPr/>
          <p:nvPr/>
        </p:nvPicPr>
        <p:blipFill>
          <a:blip r:embed="rId3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2030401680043608162HikxJw_fs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undra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Found In Norther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s Arctic Oce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uropean Russia’s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rmer Temperatures than Asia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id Continental Clim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at’s All For Now!!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4" name="Picture 6" descr="C:\Users\Yaseen(Admin)\AppData\Local\Microsoft\Windows\Temporary Internet Files\Content.IE5\TEIWRE2J\MC900116362[1].wmf"/>
          <p:cNvPicPr/>
          <p:nvPr/>
        </p:nvPicPr>
        <p:blipFill>
          <a:blip r:embed="rId1"/>
          <a:stretch/>
        </p:blipFill>
        <p:spPr>
          <a:xfrm>
            <a:off x="1219320" y="2286000"/>
            <a:ext cx="6095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 Case You Didn’t Know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SSI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D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200490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The Goods of Russia’s Climat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 Tactic for War!!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entiful Rain for Abundant Cr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n Attract Sk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woohoo"/>
          <p:cNvPicPr/>
          <p:nvPr/>
        </p:nvPicPr>
        <p:blipFill>
          <a:blip r:embed="rId1"/>
          <a:stretch/>
        </p:blipFill>
        <p:spPr>
          <a:xfrm>
            <a:off x="4648320" y="14479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Bads of Russia’s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lot of tourists!!!! (Due to cold weath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lot of Dry Years, with less rain fall so wheat crops fai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51051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It’s Col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6" descr="aptopix-russia-snow-storm-2009-12-29-19-41-41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ypes of Clim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arctic Clim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subarctic-climate-z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ubarctic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Common Climate By F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s Most of Russia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ly the East and Southea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Surrounds the Sea of Okhot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umid Continental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nd on Western Russia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is the only climate for Europea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wisconsin_river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91641653onXuNC_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eppe Climat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eat Steppe— Found in Southwestern Rus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Found In Areas Near The Black S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Yaseen(Admin)</cp:lastModifiedBy>
  <dcterms:modified xsi:type="dcterms:W3CDTF">2010-12-21T02:52:37Z</dcterms:modified>
  <cp:revision>11</cp:revision>
  <dc:subject/>
  <dc:title>Russia’s Climate</dc:title>
</cp:coreProperties>
</file>